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EE3-2738-4E29-84C4-84C0690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00-AAB1-4EF1-A600-F13A613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5FB09-A7FB-4AD2-A3AC-5E96283F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235DE-304F-4EBD-8CF5-F7D10BA5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14F5D-E54C-437A-B15A-3E708BC3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F0FAB-DE81-47AA-9DD3-EE6C119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1016B-570A-4851-9FC1-8AC0C6A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2630A-E776-44A3-9465-3CE14EC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871B5-05D2-495E-BB62-3A2CE2F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FB576-D1B6-40ED-ADBC-AE424E1F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DDB5-E0B1-4B9C-A696-9B6DFD63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9F48E-3EBB-4E51-A31B-FB1F4156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C27-11CB-491F-B991-46A5051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75FB3-26C3-4E5A-B146-1853F32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F997D-25C6-47C5-A5D0-A3BE3589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7183-6175-4B82-8679-0D3F1F0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0512A-D1FB-4C59-BC1B-44595B1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BAFA-05D5-4992-825E-576F036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2534D-18A6-4D7F-A6EE-924D1D78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99B09-C907-4941-9882-894FD4BC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0D121-DA19-4CEF-8846-C37A62F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9C100-0488-4B37-BB83-EA76453F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5BAE0-8316-4733-A2C4-1CEDF6CA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28C-DDDB-4A36-A3D2-87E79AB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A6149-ABB2-4BED-8B11-DFC4766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ED4C-3385-4F88-8679-02BD8FA7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F5EC7-6B99-43A3-949C-515F916D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8D83B-992E-4866-BA09-0DDC46E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CA339-DA92-4E15-934F-B4C7740A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44F81-1561-4272-8036-C5C4E74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1403D-74F4-414E-B43D-8A3FB27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AECF3-39ED-46BB-A493-DB8E8F7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FC26-8B77-4DE9-9862-F698A47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3668F-B703-4854-85F9-D727CDD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C768-2032-4F39-9B56-5F9E83AF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B85BC-5590-4F74-8A9B-ECC58502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5DE5A-B25C-4374-96AB-F22182AB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02ED-7C07-4270-B68C-751F3887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96829-3BD1-4A33-8009-9E90BF49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EB51-B72B-4FA0-9D17-3AAD593E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2EC41-2EF4-4225-9056-EC6EA18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542C6-F9C0-49EB-B072-D0C3225F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BFF18-48D0-482A-B55E-6EF0846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4D2D6-1225-4800-AF6F-FEDD5E5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92177-1F5B-492F-8022-89947B6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E6C2-7157-4A9F-BF64-7F27843E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F5DCC-E131-46FF-9EF9-27E5B00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B847-CD37-4DED-88C0-6A22765E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71357-0F5B-486C-A165-DA47A59C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94226-4F50-413E-9CF2-E8E6B6E8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88A68-18D1-4C20-9AB0-7D3A129C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607DF-449A-48E1-8085-F2264E3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01B2A-A69B-494D-AD13-A2F993E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4614D-10FE-49CA-B8D4-50438188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D2831-CEA6-47C4-80FE-119B454C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77225-98A9-445F-BA1A-3BB699C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9395-1668-4911-9FD1-83E592F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2D7B0-1B69-4811-BBF2-06DFFD7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66D8F-F0F6-4795-9131-4B7CA7E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E9691-B7F4-4C6B-B879-BAC3329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77B17-8568-45EA-BDA1-A4CBE2BA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AD5AA-D3D4-4738-B15A-F6BF779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A3FD8-CE8C-4041-8F07-30A31EC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54F12-BB82-4350-8F92-B869449E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D5723-DC70-437A-BE87-73F8AADA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9224C-26C3-4822-9205-30C208C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20003-2DEE-4CED-87AA-DD8F9C0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393-7B18-482C-A40F-765EBAB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5C612-D086-400F-9785-0465D73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18986-BE1E-4E39-9DDE-3E3FEB3E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9B1C8-EEDC-4B4B-ADC4-D2424B59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42720-3771-4B28-A0A3-EF1370A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EC469-9939-4920-BFE4-55C2C82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AD93D-C1FE-44F1-A8D2-94F5815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C385F-37D4-49A2-A88F-EA516AA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86154-4EDF-451C-8AC0-0208FA9A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B3E95-0A13-48D7-810B-CE1DF91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8EFAF-A9E5-4965-8B00-57E18FB3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5DA3-AD45-499F-8F55-E775A30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D37D6-5CD6-4540-9F86-BE6E00A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62FAA-598A-477A-BF58-81D8A8B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BB495-9850-4F3E-A108-84E5509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B5B4C-6F35-4851-AD28-47A6228E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04AA1-9FB9-474C-9C50-4D508D7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DE535-072D-46D4-81E7-D3D3DF6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45F30-92B0-4265-9E93-4E81C5C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10678-F716-453C-9928-8C97914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DBF2E-38F2-433F-B6E2-96650276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9D570-600C-41B5-B822-06A7E95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751-1EF7-42A5-8631-437778F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F2B30-B7B4-49B1-82B6-CCE5B911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D849A-9F51-4ABE-9BA4-B2C723E1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71EDB-B7C3-40D0-990A-3510CA3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AF380-9A22-4271-9E62-7572DEB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867C6-1948-4FB5-9E2A-FEBE1902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A071A-9E1E-4FE2-9A58-FEC85AC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2D09A-E1D5-4D29-AE5D-1C40241A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F8092-E764-4F1D-A377-4D95AB6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79588-0DF0-4D9D-A4AF-18F2A5F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85606-4C71-4C1E-A01A-23B820C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E7E-F8D4-49FD-8D1F-B9059CE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61290-DAD2-4970-90A9-1FA69D01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FA19D-A86A-4962-9078-74B8B15B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0A751-44FC-40CC-AB86-669AD7FC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3C63C-2452-4756-BBB9-77C77D36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34A9E-155D-455F-954D-133B022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E7F70-B8F4-4695-867C-B7D5730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8EFE1-070C-473F-A3A3-25CE93A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77FC1-40BF-454C-980A-147577B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4DBE1-9B27-4531-9C1D-C1F851C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D4A1C-2C17-40F7-AF72-D3910E8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C0D-128E-4225-AE71-3803B44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8E5-D983-48B9-9A03-026F580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CA051-3204-410D-955C-182E7C8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597D0-F375-43DE-AF59-113FA117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536F5-FCCA-42C2-890F-7925227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B16AC-E9D3-4635-955D-CDCECB0C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C2BFF-F877-4CBB-B7B8-AB179EAC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2FA80-6F8E-441E-9905-B1035C4B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1C1D5-69D8-4C8D-8268-A08B2E8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3D55D-3AA8-4631-8707-853F039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B6E16-C6E2-48A9-AFBD-8D9B3F4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59946-95FF-42B1-B305-EBA5E9D1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F4AA-4FA3-461F-860D-82376E6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A2FFF-32A9-4945-BB36-BC90E953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1D1C1-08CE-4396-A345-14A28EF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9ED10-660D-44F6-A142-B0E9FF1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0C6A1-49A0-4ACE-9AF9-7CB22B97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5F5F8A-1CD0-4BFE-BF9D-2BE2DA62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A4F19-A386-4C51-89BC-897AAE9C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C167C-5B7D-47CA-82FB-405B5090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0828E-6D81-468D-918E-EA65262E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B6750-834C-492F-BB79-FA4255E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E93B9F-CD54-4B20-9EF3-AF700B5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19DB-0BC9-447F-B34A-B2BA4F09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42EDF-7B5F-46DE-8FAD-B0B7BF0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24314-77AD-4E51-90E1-82A2C94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2CA2A-DB7E-4AEE-AFF0-D309A81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931A4-D7BA-4E28-8F20-1D458661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6933B-C55B-410B-A55E-97EEF6D8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D914F-E648-4C4A-A5F8-4D02AE6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C3696-29D1-43CC-AB31-BC272D5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66CE8-E675-4BE3-A668-E3123E50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0DEC3-24CA-450C-AE64-0AB87217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C952A-99DD-4276-8667-E3CC66A1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A74-033A-4D7A-A1CA-629F0442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F6C89-372B-4DA7-9239-38B82B0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470ED-F2A3-4CFC-9314-0571A6F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CF2F6-B8C0-4485-9147-C5E36D03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3FCD2-A803-4116-A3E7-DD85B85B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3F3C6-39F4-4F85-A1CD-29A9809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88D71-8D20-414E-A1B3-1109463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1CB2F-625F-4646-9A5D-9B8DCC98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FA980-D24F-49BA-BBB0-BCDF1AC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1AD9B-F900-4025-8F0A-1270BCF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165BE-5A0B-453E-8492-DC7059A9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44C7-89EA-4843-B916-9F36358C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24795-42CC-425D-96F9-A059439A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36FB8-737E-4E30-8A83-84C3D7A6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0241C-0890-423A-9C5D-50BF105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E5D8A-5613-4F40-8749-409E77EC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F2823-3A57-47E4-8AA3-4B9ECE5C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85787-7C5C-4F2B-A432-FF68205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1E3FA-A8BE-4C8A-BF70-1C6C065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C15FC-D810-40E8-B2CE-8EC3166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8D660-6DA1-4CFC-B772-41021BE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C5B34-AF89-4CCF-A761-EE1688D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6A09-87A4-4239-A02F-1C8B847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05894-4BC6-4BD2-B785-F7598BCC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93070-9060-42AA-8552-6B838857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ADABA-9645-4AC1-A820-93FDE77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7A5B-0BE4-4143-8C6D-929FC252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E44A-242B-4AF8-9936-E7AA77F2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7219-3080-467C-AFD4-ADEBB6C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3A3A-E4B1-40DA-8561-5B13DDE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3CD-DDCB-446A-A116-00B169F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329E-2C88-4820-8660-94FEC14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62CE-0130-46ED-A7E2-78B6CB2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EE26-8E05-4D97-B225-8C9A7210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7B07-CF46-4BA7-939E-217D090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1C9D-431F-4CE7-AEA0-F3ED308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8AF6-D2FD-4FCF-B7EE-38002B08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240E-4993-4F8D-AFDC-3EC4E276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9ECE-E52B-4672-949C-1AC8F870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E074-942A-402C-ADB6-DAE547B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792D-A7A4-40B5-A310-FE44549A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638-567B-4B98-B2AB-40F77B9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370D-35B7-4DF0-AB3F-7FC9283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6E94-8693-4DB3-A097-B755068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BFD4-E8A3-4F86-A0F2-BBB170B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FF85-A8CA-4C60-B5E7-9D72BB0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7552-01B2-4088-9746-80922D3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3CA8-B175-4182-886A-F657564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8203-212B-48CE-AC08-C84D6F1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44A6-13D4-452E-940B-18CB6910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3771-FC72-4735-9ED8-0A9C9AB7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7675-88BD-44D4-B674-1A5E806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A34-08B0-45D1-BBCF-A4B1F803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1822A-D0E9-4703-B09D-6F2D36D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D14C-2A1C-4CB2-81FE-FC257ED2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B762-240A-43DE-B108-47992EB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BDB7-1A21-4AAA-A6E7-9446838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ED0D-1C32-4B76-B517-6437E9D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369E-57C3-48FB-917B-997E5DE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BC14-E5C0-4BAB-B92B-C157C76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3071-7583-4C57-8BD7-D0C3E41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5B86-08D7-4E69-8231-FC5BBF7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E806-11F5-4344-B7AA-80CD1438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DA3-68C6-4815-AE44-32E7FABB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B617-6471-4C6D-B0B2-88CBCE95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85F5-6B16-4C20-BC96-B00895FB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C54AE-7428-4E10-9D29-D8BCCD5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FD1EB-57A2-41A5-9F66-2E219E59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C507-F26A-4F92-A6DA-FCAB0A08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AC5C-2488-43A4-8032-DC8815A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927E-357E-4164-8DEB-26F9BEF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96E8-F63E-4D2D-A7A6-859FC8B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1001-F274-4A10-9466-9A7D9FC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7322-3256-46FB-8645-0F168B3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C37-FC53-4439-A7EA-62737A8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4352-35B7-40DC-AAD4-E8897C5F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9432-1705-4E73-87BF-130FDA9E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0DFBC-E98C-4C65-A8DE-8D3C44C7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9E52-094B-4FF4-94DD-0BA0715E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47B0-1E1C-414B-BFC7-2ADD2A97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B505-B9D9-497A-A996-CBAE484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FCBD-5730-4F5D-A6D9-060F912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4435-22F1-47F9-B1E0-20AF131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E006-2F56-4731-B086-1A560BF7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1FDC-14A7-4B81-9C92-11C5818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47F-1DD2-4829-8554-4D53808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C0A3-04FB-4C29-A6BE-7CFA4D3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6074-A273-495B-9F84-DFE8107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AD74-DCD0-4BD1-B9AB-8B1DCF4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2761-A87D-4839-80CC-4CC08D59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9491-5676-44C4-9E55-ABC59CA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D2EB-0F22-47F8-81D3-5EC0650B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CD6A-B30F-4698-970E-A2B7A2BB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6B46-EB04-4E99-BDE1-98AA0443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D65D-B1BB-451C-A72B-95F5C74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EDEC-C1B4-4D92-98E4-DC3FA5ED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B01-C68D-4D91-8EA4-FB835AC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63F7-CC11-4981-A09D-B850D35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7DA4-A075-470F-8BA6-A7EF7D11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C91E9-612B-405E-97D3-70612E14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2A64-E1F0-4BCD-95B5-DF5DE90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E425-F7E0-4D75-A497-EAF04B3B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D1A3-64BD-4CEC-AAEA-5314724D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05C3-98F1-485C-AECA-A7BEB30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69F8-46E5-42E5-97EC-E2751973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04E98-9DD3-418E-8935-EECA0D4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8BB8-6E13-4E47-B6DC-E3EC685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AF4-ECC3-4C5D-B46C-93CCC9206A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2F4-310D-4843-B24D-05164523F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CF8-34C8-402F-AF3F-6416419CB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DD4-25E4-44E6-ACF1-5AF65001C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95C-D3E6-4F8C-881B-818B97D49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1A7F-D28B-4140-9E5F-8A5DDA933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450C-54B3-49C0-A1CF-0D9DDBE33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783-34BC-4DEC-8BE1-568063054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17B0-2DDB-4795-8287-D3F8F813C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177-8AB0-46BA-B129-8454AB634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1FE5-30CD-4EA0-8F19-B1ABAE8B1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2B7-0F73-4B82-9606-86F9FF255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9A4E-9B17-4510-88BC-46254BA2A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2659-DCA7-4B79-AEF7-79202C052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D63-E0ED-432E-836D-083D2B227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C50-CDA1-40E6-9A36-70B18BACFB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D51A-CDA8-4839-B3EE-55A93F140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161-DB2B-4CFC-B067-70038FC05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D47-8F1C-45F6-BBBE-752D30CF6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709-C851-466D-8069-9AB583B33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0BF-091D-4E3C-8FDC-91C6F98A20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0012-FE52-49A4-A768-D3BF49519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DE4E-0F3C-4216-ACC9-5D7A68127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0B0D-171F-4692-81FB-F63C59E771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4CB0-DAB5-41F8-86E4-1EE13E23C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3F8-5F86-4BA0-B20F-8C791F7F8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25B-5FB4-4EA1-A0BE-9DC856EB1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BDA4-893B-4356-AED8-926CCB8E7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EE2-3CC9-49B9-B578-5CDA26F78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1E9-83CD-4DD2-9250-3286F056E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F9A0-D00D-41A8-8564-52B87FFF9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7C7-89A4-4A73-9042-13B7A4774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ED0-633C-4F4D-AB77-F8961BAAEB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50D8-E901-4D91-A5D4-A9FC09202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229-E648-496B-88FF-BCC01C59FF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F36-3D46-43E9-9A0B-CCFB8B2A0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02A3-AA08-41F3-9FB8-D605D3A25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B15-301E-4A45-BC89-6073A0944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BEC-F040-4E06-99A1-46F0CD4FF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647C-ACA4-4C23-AC55-F2EBE463B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38160" y="2952720"/>
            <a:ext cx="7267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7753320" cy="192420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753240" cy="1981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093080" y="1557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236000" y="242100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195640" y="40194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2195640" y="48848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497520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5148360" y="489888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7970760" y="4005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8101080" y="48690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581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479736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66764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132000" y="532908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645240" y="530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295200" y="1290600"/>
            <a:ext cx="8553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04800" y="919080"/>
            <a:ext cx="7934400" cy="5534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716360" y="93672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093080" y="148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843280" y="2060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1547640" y="2637000"/>
            <a:ext cx="2303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5867280" y="2637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7740720" y="3716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1187280" y="427824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5364000" y="4292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3564000" y="47973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6659640" y="48261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3"/>
          <a:stretch/>
        </p:blipFill>
        <p:spPr>
          <a:xfrm>
            <a:off x="4572000" y="5373720"/>
            <a:ext cx="25210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4"/>
          <a:stretch/>
        </p:blipFill>
        <p:spPr>
          <a:xfrm>
            <a:off x="2268360" y="595008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90520" y="995400"/>
            <a:ext cx="8562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52320" y="969840"/>
            <a:ext cx="7839360" cy="577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867120" y="2593800"/>
            <a:ext cx="20588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084720" y="260820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851280" y="3457440"/>
            <a:ext cx="20588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068880" y="347184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852720" y="4321080"/>
            <a:ext cx="20592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070680" y="43354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8"/>
          <a:stretch/>
        </p:blipFill>
        <p:spPr>
          <a:xfrm>
            <a:off x="3851280" y="5172120"/>
            <a:ext cx="20588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9"/>
          <a:stretch/>
        </p:blipFill>
        <p:spPr>
          <a:xfrm>
            <a:off x="6068880" y="5186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0"/>
          <a:stretch/>
        </p:blipFill>
        <p:spPr>
          <a:xfrm>
            <a:off x="6012000" y="6049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1"/>
          <a:stretch/>
        </p:blipFill>
        <p:spPr>
          <a:xfrm>
            <a:off x="7337520" y="6049800"/>
            <a:ext cx="979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638280" y="2219400"/>
            <a:ext cx="7867440" cy="2419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116000" y="28368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748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534160" cy="65912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4277" descr=""/>
          <p:cNvPicPr/>
          <p:nvPr/>
        </p:nvPicPr>
        <p:blipFill>
          <a:blip r:embed="rId2"/>
          <a:stretch/>
        </p:blipFill>
        <p:spPr>
          <a:xfrm>
            <a:off x="1015920" y="2536920"/>
            <a:ext cx="7934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2231" descr=""/>
          <p:cNvPicPr/>
          <p:nvPr/>
        </p:nvPicPr>
        <p:blipFill>
          <a:blip r:embed="rId1"/>
          <a:stretch/>
        </p:blipFill>
        <p:spPr>
          <a:xfrm>
            <a:off x="538200" y="1871640"/>
            <a:ext cx="8067600" cy="311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187280" y="3127320"/>
            <a:ext cx="7417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4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